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A17-D6C6-432E-8BDA-D4D47BE5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B29-1F40-400E-8010-0BF555F3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01E-C677-465D-AD6E-6D7F8B68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969-146C-4AFD-A832-064911A0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1D6-9EB0-4887-8657-E9D16D44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9E1-8A3A-472D-87EF-2F7BE796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CEB-7DF5-46F9-AB78-8F6A9D7A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78D-1EA2-42F9-9C2D-F27E3520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E67-E2FB-43D7-9760-5CC0FA7C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89B-D6A7-4922-B67E-E581467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CE2-73B0-4019-AC0B-69964566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3ED-BA6F-4019-AED1-F06BDAB2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05A1-1A44-4E34-84C3-F474CB469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tice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2971800" cy="25556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819520" y="2514600"/>
            <a:ext cx="49528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5410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334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0 + 2 + 5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819520" y="2514600"/>
            <a:ext cx="49528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5410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5334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607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+ 2 + 5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541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 + 6 + 1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819520" y="2514600"/>
            <a:ext cx="49528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5410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5334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607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+ 2 + 5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541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6 + 1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048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17524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5 * 2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3048120"/>
            <a:ext cx="379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7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24280" y="2971800"/>
            <a:ext cx="3175200" cy="3524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638680" y="304920"/>
            <a:ext cx="3200400" cy="2133360"/>
          </a:xfrm>
          <a:prstGeom prst="wedgeEllipseCallout">
            <a:avLst>
              <a:gd name="adj1" fmla="val -14037"/>
              <a:gd name="adj2" fmla="val 69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Soooo Cool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934320" y="2895480"/>
            <a:ext cx="1803240" cy="1949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219320" y="2057400"/>
            <a:ext cx="3200400" cy="2133720"/>
          </a:xfrm>
          <a:prstGeom prst="wedgeEllipseCallout">
            <a:avLst>
              <a:gd name="adj1" fmla="val 124055"/>
              <a:gd name="adj2" fmla="val -13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until you see thi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6272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716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5 * 2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276720" cy="316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2819520"/>
            <a:ext cx="2438280" cy="1676160"/>
          </a:xfrm>
          <a:prstGeom prst="wedgeEllipseCallout">
            <a:avLst>
              <a:gd name="adj1" fmla="val -73370"/>
              <a:gd name="adj2" fmla="val 457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on’t remember how to multipl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91520" y="6400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91320" y="5486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6272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434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62320" y="6248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91320" y="5486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62320" y="6078600"/>
            <a:ext cx="4419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+ 1 + 5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the ten to the next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5257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150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7712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6248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91320" y="5486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29000" y="5257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150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76520" y="26668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17524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73 * 5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3048120"/>
            <a:ext cx="379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5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724280" y="2971800"/>
            <a:ext cx="3175200" cy="3524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638680" y="304920"/>
            <a:ext cx="3200400" cy="2133360"/>
          </a:xfrm>
          <a:prstGeom prst="wedgeEllipseCallout">
            <a:avLst>
              <a:gd name="adj1" fmla="val -14037"/>
              <a:gd name="adj2" fmla="val 69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Soooo Cool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remember 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4322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048120" cy="2878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2719440" cy="2940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533520"/>
            <a:ext cx="2209680" cy="914400"/>
          </a:xfrm>
          <a:prstGeom prst="wedgeEllipseCallout">
            <a:avLst>
              <a:gd name="adj1" fmla="val 3162"/>
              <a:gd name="adj2" fmla="val 98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80880"/>
            <a:ext cx="4038480" cy="1981440"/>
          </a:xfrm>
          <a:prstGeom prst="wedgeEllipseCallout">
            <a:avLst>
              <a:gd name="adj1" fmla="val -3106"/>
              <a:gd name="adj2" fmla="val 63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help!!  Let me show you how to do Lattice Multi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5 * 2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*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514600"/>
            <a:ext cx="44197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2952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3 * 2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2952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5 * 5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2952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3 * 5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5410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9:03:51Z</dcterms:created>
  <dc:creator>reynoldskathleen</dc:creator>
  <dc:description/>
  <dc:language>en-US</dc:language>
  <cp:lastModifiedBy> </cp:lastModifiedBy>
  <dcterms:modified xsi:type="dcterms:W3CDTF">2008-05-09T17:54:11Z</dcterms:modified>
  <cp:revision>48</cp:revision>
  <dc:subject/>
  <dc:title>Lattice Multiplication</dc:title>
</cp:coreProperties>
</file>